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04D-FFDD-4AE0-94A3-767FA362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E97D-84A6-4F49-BEED-2A73FB8D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8E7D-9E6B-4F0A-B526-455BB72B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E13-9141-44B2-8173-478E20B9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DF36-F5A7-4F47-A5F2-9057D6E9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9375-8AEF-4D37-85E8-52944D6F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FB28-47F7-45F2-A368-A252CD03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BCC5-BCF8-4459-B37D-2866FAE5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F24D-EFC5-4B56-98EF-1180551B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D875-D7B3-48B7-B20B-A5BD1B25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9924-14DD-4FB1-92F0-8598441E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EA4A-FDF6-443C-A70C-B2E7ED98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FF80-E0E1-449C-8FE7-DCD3D24D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1EF4-C1EB-41AF-8C0C-D4898187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D3FE-866F-4D4B-929D-8C909770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5399-D75F-4766-BFC0-20206F82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A174B-21E6-48B4-A32D-76F4FD05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D7BB9-BC3A-45CF-99D3-2804339A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687E8-5506-4BA8-97CD-0CF54437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EFA8D-5D9B-4E8E-819E-9D1EC180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1E517-5354-43A5-8CD3-DD64A24E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2BD0D-8102-49FB-9839-5C5C55ED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FAD8D-0211-4021-8DC5-5F75784C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1A4A4-18A1-4F14-83FD-5A451C26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26FF5-DF19-4F4A-8565-0D9776AF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93201-4880-459E-B4A5-07A4A821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201C0-5105-4847-A342-1D3DEC49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64052-1658-41C0-8FAF-C6CB2A66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E9A-B5F8-4709-AC47-602F2074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8CB-1DC8-4014-BB56-CD7B9615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B1C-E613-4BD9-AF8A-E87CF99C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6B52-0E12-4576-84E8-C7E89BD8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F054-90B4-47F7-8A6D-DE3F4FDE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906A-7A7D-4948-9B45-323D67A2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F2EF-04C6-4F2D-A3A6-FDE46DAF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4349-2AB6-4904-9564-6B837AFB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D894-F5BF-4593-8512-530844077D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79A3-B9E0-44DC-9F5E-4286C3CCA0C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4083-25BF-4A87-BFE4-AF31E305199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77920" y="1695240"/>
            <a:ext cx="8656560" cy="12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3. REDNA SEJA ODBORA ZA SPREMLJANJE OPERATIVNEGA PROGRAMA ZA IZVAJANJE EVROPSKE KOHEZIJSKE POLITIKE V OBDOBJU 2014</a:t>
            </a: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2020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178080" y="6040440"/>
            <a:ext cx="29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lovenj Gradec, 19.5.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6-05-16T14:27:14Z</dcterms:modified>
  <cp:revision>35</cp:revision>
  <dc:subject/>
  <dc:title>PowerPoint Presentation</dc:title>
</cp:coreProperties>
</file>